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2411-4933-42D6-A919-263D0A604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846C-F619-4F2B-8BA3-46C422D9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D5AD5-6A01-4551-935E-F0A7C658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3E289D-9B4A-4B73-9E07-4FE6038F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A7AA8-77C3-4009-AEC2-473504F3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82161-0745-45B7-A2D8-EEDB60F6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D06D8-74C8-483A-928E-E3A488B0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E90A5-6FC6-4283-9F53-8113C223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5DF2E-89AD-49D2-93A4-E316CC61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8ED48F-FB68-4CEB-8F29-B3BB78C53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988B2-EBB9-4E4F-9F13-55DFDF8FE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2515-1142-4EFA-A01F-0F34C0DE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FA2E-6021-4EC1-8779-B8B01A767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8A69-D78D-4EAD-A042-8696A8947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F625-0DDE-4DB2-8F1C-36460A79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6302-F611-45B1-86A7-C0133562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39C5-D7DB-4B67-81F8-B3EC36F1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36DB-3876-46AE-8481-B65F7032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8C06-D4ED-4850-A22A-317CCDF5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8B60-1EB1-4210-91B4-B3287ECE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B320-CFAA-4FC7-95A8-FF61CFF2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0DDB-27EF-4351-80BF-F79F40C1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A0F7-7D26-4ACB-BDB0-54CDC399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1D75D-F812-4E59-9AB0-B972BDF3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E8E0-5655-42D3-86C4-99E044EAA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6AD6-7E04-46BA-9B88-B29700D75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5D165-D487-4B65-99BE-9B663AFB4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76ABA-B5E2-46C8-B647-CA9A28C8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DE919-50FC-4405-B7CC-EC92301E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E750C-769B-4169-B6DA-8A6B495B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34EE4-647F-459C-8240-E5180D28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E12A-5172-42F5-8BA3-C855CA7B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3EAD5-2BCA-42AA-B11D-FF94B316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6B7DD-2A2D-4731-ABCF-D7C1D80D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39626-A477-488B-9C12-6FA360D6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62729-5E45-4755-9A3D-4D3B2C6D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47D7A-9D14-4C56-A3AA-0E81F503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4D9EC-4069-48F3-AB35-FBB91B068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F83BA-0C8E-43B0-A821-CB0BDC8B2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0D962-DE20-45E6-8C49-33A7C9DA6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6C213-2A8F-4F44-8E51-63F5554A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560F3-D530-4267-A5BE-D652B4DF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33F4-3069-40C2-A33B-DC178319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D961E-EA94-4BF7-A237-B99BE8C1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89C67-EA27-47AB-84DE-BA43F6B6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28DD5-EBFF-4958-AB04-513B2040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25152-5340-4670-9AB4-77AC38BC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21789-7685-496D-91BF-6E9DB42C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6DF7C-D731-4884-8C92-B48EC12B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DD857-C022-445A-BCE3-D011AB7F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DB52C-0D0E-4742-AC9A-217553D84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F4DA1-6407-44B6-AA22-C5A75BD9F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8B648-D5E6-4D3A-8D38-CFDBF738E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D194-37F1-4E3C-9BEC-0860BCDC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64ABE-C093-426A-B427-3DEA62FF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0F890-11B1-4B1B-94EA-2ADA2F46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FF636-FF9C-405C-858D-B05FD995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069E6-913A-4545-9135-02D2ECC2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53DED-4A61-49F6-8FBB-2778AFF5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ED5A8-BDB8-4509-938B-1BFF42DA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6DA98-4334-4E3B-A913-DB51F742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36F66-1CC8-41A8-AE1E-09E62E02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5D52B-41AE-4FF5-8EA5-5514C5AD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CA5AF-1B68-4379-ADA9-1606AF0E8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E660-CB9C-4B57-9263-1596CEE2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0004A-C5D2-4FF3-86EE-EB2777E6C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B9511-B461-436B-BFFB-C57F761E3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29E91-C8F4-4591-8C8E-3DDA2A0F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D58C6-F330-40F2-8FCD-91A6774B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1B021-4A6B-433B-A9BE-5E7E397F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5E612-FFB8-4823-AD8E-05B18817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A31A4-682D-4D28-85A0-62E11B1F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B4A6D-F292-41CA-80D1-C19E3546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E3621-386D-4285-9127-9AF92B38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44CFB-4305-491A-A420-E11DF2FC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A5A2-3557-4287-B0BA-7D55D56F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BF18F-9DBB-4636-A813-E5EF432B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1823F-2157-4C9B-90C0-BBE28121F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C0E48-74CF-4170-BB3D-A6F117C4A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BE96B-D195-4693-9626-6897B4ECA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9D6EC-0445-4C6A-9E1F-C8AF147B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135DD-76ED-4AEF-9226-0F23591F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250C9-F8E4-4FCF-806A-57C535B0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56749-CDC9-4F1A-AF1F-735B83AC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FD854-C8B8-4CA0-9A03-FB1DA62B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EB209-F657-4D7B-9562-FA263C87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E338-6127-4C6B-AFAE-2693809B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CDAFA-02A0-4FD0-B04E-9A29B5A2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A299C-9768-40A9-B58F-D5CF3C91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5B5F2-9C94-4A22-8809-CB7736E5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24DB2-ADDC-41ED-8508-A4A29684D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D6151-F0CA-4586-9F40-8220095CB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58056-C9A1-4F5D-8A2F-D9650566D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A4504-A4BF-40E1-92B7-8D9E182F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FD4F6-E61F-43DA-8457-9B2A677A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AA341-FD3B-46BD-911E-6D4E612E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66F73-78A1-40D0-A831-BCE3780D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5058-55A7-403C-A479-08F6615E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BBD34-536A-4C3B-984D-004C1107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4CE27-610D-4ECB-8FF4-B1B4A831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FF801-34FC-4FDA-B688-7FE063DC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34A1F-6967-4639-A5F4-A77BDD34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9DAEC-769F-4AE2-A2DF-8AD709B4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57101-B196-4DB2-B010-DFEC80591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FC409-5FE0-42C0-A083-54D6D8D96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5B885-DFCB-4CD0-9A2D-E6458F56D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7E4E2-BBFF-4989-8CBA-FAE95AED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BA127-C8B1-4012-BBDE-AFFDBFD9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2FD2-28C6-4FF7-B0B6-5DEB4031846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0DA8-9BD5-4B4D-9963-FBC0A0E6ED3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B52C-348E-40B4-ABAA-D33D4E2B85B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BF4E-793A-4E5A-986C-EA6F720F0F9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E03D-BF93-43BA-A256-A04DBB100F9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E2E9-43EB-4B4A-9276-62112E7C3A9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83DC-70AB-49A5-98EF-DD1112A3AF7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E571-30DC-41CC-8270-40D69E08356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98A2-C495-40B6-A38D-501C76444FF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2"/>
          <a:stretch/>
        </p:blipFill>
        <p:spPr>
          <a:xfrm>
            <a:off x="237960" y="615960"/>
            <a:ext cx="8552160" cy="29322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2714400" y="4571640"/>
            <a:ext cx="505764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ольских Надежда Аркадьевна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 и литературы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Рябининская СОШ»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дынского район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3" descr="C:\Documents and Settings\Admin\Рабочий стол\Pelica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0" y="642960"/>
          <a:ext cx="9144000" cy="5357880"/>
        </p:xfrm>
        <a:graphic>
          <a:graphicData uri="http://schemas.openxmlformats.org/drawingml/2006/table">
            <a:tbl>
              <a:tblPr/>
              <a:tblGrid>
                <a:gridCol w="958680"/>
                <a:gridCol w="479520"/>
                <a:gridCol w="480960"/>
                <a:gridCol w="479520"/>
                <a:gridCol w="479520"/>
                <a:gridCol w="523800"/>
                <a:gridCol w="480960"/>
                <a:gridCol w="479520"/>
                <a:gridCol w="479520"/>
                <a:gridCol w="479160"/>
                <a:gridCol w="479520"/>
                <a:gridCol w="465120"/>
                <a:gridCol w="479520"/>
                <a:gridCol w="479520"/>
                <a:gridCol w="480960"/>
                <a:gridCol w="479520"/>
                <a:gridCol w="958680"/>
              </a:tblGrid>
              <a:tr h="377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0" y="714240"/>
          <a:ext cx="9144000" cy="5286600"/>
        </p:xfrm>
        <a:graphic>
          <a:graphicData uri="http://schemas.openxmlformats.org/drawingml/2006/table">
            <a:tbl>
              <a:tblPr/>
              <a:tblGrid>
                <a:gridCol w="958680"/>
                <a:gridCol w="479520"/>
                <a:gridCol w="480960"/>
                <a:gridCol w="479520"/>
                <a:gridCol w="479520"/>
                <a:gridCol w="523800"/>
                <a:gridCol w="480960"/>
                <a:gridCol w="479520"/>
                <a:gridCol w="479520"/>
                <a:gridCol w="479160"/>
                <a:gridCol w="479520"/>
                <a:gridCol w="465120"/>
                <a:gridCol w="479520"/>
                <a:gridCol w="479520"/>
                <a:gridCol w="480960"/>
                <a:gridCol w="479520"/>
                <a:gridCol w="958680"/>
              </a:tblGrid>
              <a:tr h="37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Й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Й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Ю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7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 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5486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5285880" y="213840"/>
            <a:ext cx="371484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еликан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лина – 1,8 м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азмах крыльев – до 3 м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ес – до 14 кг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мешная птица пеликан!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н грузный, неуклюжий,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Громадный клюв как ятаган,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 зоб - тугой как барабан,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битый впрок на ужин..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Э.Асадов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7" name="Picture 2" descr="C:\Documents and Settings\Admin\Рабочий стол\паустовский\рис1.bmp"/>
          <p:cNvPicPr/>
          <p:nvPr/>
        </p:nvPicPr>
        <p:blipFill>
          <a:blip r:embed="rId2"/>
          <a:stretch/>
        </p:blipFill>
        <p:spPr>
          <a:xfrm>
            <a:off x="0" y="0"/>
            <a:ext cx="5197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5486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714560" y="0"/>
            <a:ext cx="4429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Я не знаю ничего более близкого мне, чем наши простые русские люди, и ничего более прекрасного, чем наша земля»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.Паустовский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Picture 2" descr="C:\Documents and Settings\Admin\Рабочий стол\паустовский\портрет Пауст.jpg"/>
          <p:cNvPicPr/>
          <p:nvPr/>
        </p:nvPicPr>
        <p:blipFill>
          <a:blip r:embed="rId2"/>
          <a:stretch/>
        </p:blipFill>
        <p:spPr>
          <a:xfrm>
            <a:off x="-101520" y="0"/>
            <a:ext cx="485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*****</cp:lastModifiedBy>
  <dcterms:modified xsi:type="dcterms:W3CDTF">2012-01-27T05:06:24Z</dcterms:modified>
  <cp:revision>16</cp:revision>
  <dc:subject/>
  <dc:title>Слайд 1</dc:title>
</cp:coreProperties>
</file>